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21A-C457-4B0F-B9F6-DE848D30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39B-E74C-466B-9190-FE6D2AAD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AAF-9B3B-4984-A62A-A9CD0EDB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2AE-F95A-4A0E-84A7-CE7B0D69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971-22C7-4845-9862-E5A89530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808-36EB-419B-9A48-785095E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4D2-AE68-4F3F-9A91-A3E1FA1C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D40-291A-47FF-99A9-B30B2AB8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692-7D94-40A2-AE74-8BAD300B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589-CE0F-4F33-839E-2A1B7E4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03F-1D5A-4050-B059-2F1CFAAA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87F-9D45-488C-AFBE-23464BB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5387-ACD9-47B8-8625-CC2E79B4E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 To Capability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an b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ell, at least it can be user friend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49942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160" y="5543640"/>
            <a:ext cx="2224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Comb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combex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 Marc Stiegler a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28-279-68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s@combex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Di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as Su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has all, the human makes periodic humble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slave" descr=""/>
          <p:cNvPicPr/>
          <p:nvPr/>
        </p:nvPicPr>
        <p:blipFill>
          <a:blip r:embed="rId1"/>
          <a:stretch/>
        </p:blipFill>
        <p:spPr>
          <a:xfrm>
            <a:off x="919080" y="2209680"/>
            <a:ext cx="355284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3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gram King is D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Live the Human K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get only minimal needed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retai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berattackers helpless against the confinement of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humanKing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3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rpaBrow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plugin rende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malicious ActiveX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malicious Netscape Plu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slide0013_image029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809880" cy="3803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39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uture of the Web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right Path or a Dead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de By Side Comparison of a Web Browser with a malicious component (ActiveX or Netscape Plugin) running under capability confinement (left), versus the same Browser running with standard Windows/Unix privileges (right). The confined Browser fails in all attempts to suborn the comptuer; the Winix-enabled Browser takes full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rowserSideBySide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5181480" cy="4940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2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troduction has been provided by Combex, 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ore information about capability secure systems, 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ecure Distributed Computing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File Secure Distributed Fil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sicomm 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Mes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ex Financial Instrument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Marc Stieg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28-279-68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s@combex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30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ecade of Breached Def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38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an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 with CapDe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the fundamental, pervasiv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Dinky Program a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taire, Emperor of the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Plugin, Lord of the User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Email Attachment, Conqueror of the Desk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olitaire" descr=""/>
          <p:cNvPicPr/>
          <p:nvPr/>
        </p:nvPicPr>
        <p:blipFill>
          <a:blip r:embed="rId1"/>
          <a:stretch/>
        </p:blipFill>
        <p:spPr>
          <a:xfrm>
            <a:off x="380880" y="2887560"/>
            <a:ext cx="4114800" cy="214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24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d07175_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810240" cy="2517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45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lternative: Cap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5639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available at this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 walkthrough that doesn’t need so many meg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Desk Fil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2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rdinary point and click desktop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ulnerable to cyber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pDeskSwt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191120" cy="259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Edit, Confined Edi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any other text edi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has only enough authority to do as what you want, not to do what it w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pEdi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04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40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le Dialog with a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Grant” button upends the relationship between human and program, giving us back the control lost in a decade of ever more interconnected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fileDialog" descr=""/>
          <p:cNvPicPr/>
          <p:nvPr/>
        </p:nvPicPr>
        <p:blipFill>
          <a:blip r:embed="rId1"/>
          <a:stretch/>
        </p:blipFill>
        <p:spPr>
          <a:xfrm>
            <a:off x="533520" y="2746440"/>
            <a:ext cx="3962160" cy="2489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853480" y="6567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 Stiegler</cp:lastModifiedBy>
  <dcterms:modified xsi:type="dcterms:W3CDTF">2002-08-29T21:00:52Z</dcterms:modified>
  <cp:revision>22</cp:revision>
  <dc:subject/>
  <dc:title>PowerPoint Presentation</dc:title>
</cp:coreProperties>
</file>